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4FB-A3EF-4E18-83DE-13ECD3D2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F9E-3C05-49F2-9EBE-80AA7D21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CA0-F5EB-47D6-B5F3-12F138BB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B32-9AFA-4EB4-BC53-C3C59344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B37-90E6-4FCF-A485-73C3C889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136-C4DE-4D53-850A-FB07D18A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AAD-FB0A-4149-ACEE-6DF40309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6B6-50E7-4C60-9429-CC4C39A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A83-FE78-4DEA-8E23-31F692C1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62F-3421-41F0-8A18-0F40C680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822-70ED-44E2-A2BA-CB7E6C08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363-70A3-4DD5-9018-D6ADCA0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9BB5-A767-4E08-BF9F-D647D661B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143000"/>
            <a:ext cx="8305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doni MT Black"/>
              </a:rPr>
              <a:t>weB LOGS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doni MT Black"/>
              <a:ea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29:09Z</dcterms:created>
  <dc:creator>ElizabethBryant</dc:creator>
  <dc:description/>
  <dc:language>en-US</dc:language>
  <cp:lastModifiedBy>ElizabethBryant</cp:lastModifiedBy>
  <dcterms:modified xsi:type="dcterms:W3CDTF">2009-03-19T15:23:51Z</dcterms:modified>
  <cp:revision>2</cp:revision>
  <dc:subject/>
  <dc:title>Slide 1</dc:title>
</cp:coreProperties>
</file>